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8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8.wmf" ContentType="image/x-wmf"/>
  <Override PartName="/ppt/media/image17.jpeg" ContentType="image/jpeg"/>
  <Override PartName="/ppt/media/image2.wmf" ContentType="image/x-wmf"/>
  <Override PartName="/ppt/media/image25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6.gif" ContentType="image/gi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E60-AF9F-457C-9D39-6B02F62D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6DE-98CC-4D55-93CB-AAF95CB0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AE2-A490-4792-A5E8-E16737A3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F3F-5836-4043-B075-B0590558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A61C-871B-474B-A8C4-ACB0FD01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CAD-AC1B-4739-9AA0-5800A727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AF5-EF3C-455E-AA52-98C917A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B41-B729-4F73-AC1B-A1691BD6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B85-F8AB-4229-AA4D-88B82483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F6A-0B10-4E90-88C8-C4AF1D4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F3E-6FD2-487E-88D0-328DD843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DB6-C819-4A4D-A127-3611A10C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9CA-89B5-4733-864C-868752E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3F81-F775-427F-88C5-B935C9C7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927-1ECF-44C1-89BB-2F385E4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075D-4C37-45AC-9420-A236764C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225F-482D-4C71-915F-8A052DF8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A5F-CE14-4ED0-8B1E-A47C9D6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28-2570-42A4-889A-5E6EA92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F52-4404-44C4-90A9-A28AEAA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331-BBA2-4C8F-AFDA-5C85BB8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0D2-E3A0-4CA9-9E16-2DF6F21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554-8AE4-473A-B306-F496EB3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C9D-90BB-4EA5-A0D0-D1DB078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B2AA-8C5F-4D64-9B86-D9461A8A2A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347E-CFA0-4101-A135-42BA6F4CF5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5.xm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Spee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, Adjectives,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219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1295280" y="609480"/>
            <a:ext cx="64008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the correct nouns in each sentence. They refer to a person, place or 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ok 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ay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layed with 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l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v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ll asleep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8380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610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 sentence of your own now. You must use at least 2 nouns in your sent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jectives are words that are used to describe something or someon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ectives help give more information about somet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/sm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954360" cy="1471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876320" cy="16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104840" cy="127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2438280"/>
            <a:ext cx="1828800" cy="588960"/>
          </a:xfrm>
          <a:prstGeom prst="rect">
            <a:avLst/>
          </a:prstGeom>
          <a:solidFill>
            <a:srgbClr val="00b2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adjective in the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44560" y="281016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803600" y="2810160"/>
            <a:ext cx="971280" cy="667800"/>
          </a:xfrm>
          <a:custGeom>
            <a:avLst/>
            <a:gdLst>
              <a:gd name="textAreaLeft" fmla="*/ 43200 w 971280"/>
              <a:gd name="textAreaRight" fmla="*/ 928080 w 971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411" h="21600">
                <a:moveTo>
                  <a:pt x="0" y="0"/>
                </a:moveTo>
                <a:lnTo>
                  <a:pt x="31411" y="0"/>
                </a:lnTo>
                <a:lnTo>
                  <a:pt x="31411" y="21600"/>
                </a:lnTo>
                <a:lnTo>
                  <a:pt x="0" y="21600"/>
                </a:lnTo>
                <a:close/>
              </a:path>
              <a:path fill="lightenLess" w="31411" h="21600">
                <a:moveTo>
                  <a:pt x="0" y="0"/>
                </a:moveTo>
                <a:lnTo>
                  <a:pt x="31411" y="0"/>
                </a:lnTo>
                <a:lnTo>
                  <a:pt x="30011" y="1400"/>
                </a:lnTo>
                <a:lnTo>
                  <a:pt x="1400" y="1400"/>
                </a:lnTo>
                <a:close/>
              </a:path>
              <a:path fill="darken" w="31411" h="21600">
                <a:moveTo>
                  <a:pt x="31411" y="0"/>
                </a:moveTo>
                <a:lnTo>
                  <a:pt x="31411" y="21600"/>
                </a:lnTo>
                <a:lnTo>
                  <a:pt x="30011" y="20200"/>
                </a:lnTo>
                <a:lnTo>
                  <a:pt x="30011" y="1400"/>
                </a:lnTo>
                <a:close/>
              </a:path>
              <a:path fill="darkenLess" w="31411" h="21600">
                <a:moveTo>
                  <a:pt x="31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1" y="20200"/>
                </a:lnTo>
                <a:close/>
              </a:path>
              <a:path fill="lighten" w="31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2867400" y="2810160"/>
            <a:ext cx="1215000" cy="667800"/>
          </a:xfrm>
          <a:custGeom>
            <a:avLst/>
            <a:gdLst>
              <a:gd name="textAreaLeft" fmla="*/ 43200 w 1215000"/>
              <a:gd name="textAreaRight" fmla="*/ 1171800 w 12150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9290" h="21600">
                <a:moveTo>
                  <a:pt x="0" y="0"/>
                </a:moveTo>
                <a:lnTo>
                  <a:pt x="39290" y="0"/>
                </a:lnTo>
                <a:lnTo>
                  <a:pt x="39290" y="21600"/>
                </a:lnTo>
                <a:lnTo>
                  <a:pt x="0" y="21600"/>
                </a:lnTo>
                <a:close/>
              </a:path>
              <a:path fill="lightenLess" w="39290" h="21600">
                <a:moveTo>
                  <a:pt x="0" y="0"/>
                </a:moveTo>
                <a:lnTo>
                  <a:pt x="39290" y="0"/>
                </a:lnTo>
                <a:lnTo>
                  <a:pt x="37890" y="1400"/>
                </a:lnTo>
                <a:lnTo>
                  <a:pt x="1400" y="1400"/>
                </a:lnTo>
                <a:close/>
              </a:path>
              <a:path fill="darken" w="39290" h="21600">
                <a:moveTo>
                  <a:pt x="39290" y="0"/>
                </a:moveTo>
                <a:lnTo>
                  <a:pt x="39290" y="21600"/>
                </a:lnTo>
                <a:lnTo>
                  <a:pt x="37890" y="20200"/>
                </a:lnTo>
                <a:lnTo>
                  <a:pt x="37890" y="1400"/>
                </a:lnTo>
                <a:close/>
              </a:path>
              <a:path fill="darkenLess" w="39290" h="21600">
                <a:moveTo>
                  <a:pt x="3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90" y="20200"/>
                </a:lnTo>
                <a:close/>
              </a:path>
              <a:path fill="lighten" w="3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4084920" y="280152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4804560" y="281016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6" action="ppaction://hlinksldjump"/>
          </p:cNvPr>
          <p:cNvSpPr/>
          <p:nvPr/>
        </p:nvSpPr>
        <p:spPr>
          <a:xfrm>
            <a:off x="5726880" y="2810160"/>
            <a:ext cx="852480" cy="667800"/>
          </a:xfrm>
          <a:custGeom>
            <a:avLst/>
            <a:gdLst>
              <a:gd name="textAreaLeft" fmla="*/ 43200 w 852480"/>
              <a:gd name="textAreaRight" fmla="*/ 809280 w 852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7570" h="21600">
                <a:moveTo>
                  <a:pt x="0" y="0"/>
                </a:moveTo>
                <a:lnTo>
                  <a:pt x="27570" y="0"/>
                </a:lnTo>
                <a:lnTo>
                  <a:pt x="27570" y="21600"/>
                </a:lnTo>
                <a:lnTo>
                  <a:pt x="0" y="21600"/>
                </a:lnTo>
                <a:close/>
              </a:path>
              <a:path fill="lightenLess" w="27570" h="21600">
                <a:moveTo>
                  <a:pt x="0" y="0"/>
                </a:moveTo>
                <a:lnTo>
                  <a:pt x="27570" y="0"/>
                </a:lnTo>
                <a:lnTo>
                  <a:pt x="26170" y="1400"/>
                </a:lnTo>
                <a:lnTo>
                  <a:pt x="1400" y="1400"/>
                </a:lnTo>
                <a:close/>
              </a:path>
              <a:path fill="darken" w="27570" h="21600">
                <a:moveTo>
                  <a:pt x="27570" y="0"/>
                </a:moveTo>
                <a:lnTo>
                  <a:pt x="27570" y="21600"/>
                </a:lnTo>
                <a:lnTo>
                  <a:pt x="26170" y="20200"/>
                </a:lnTo>
                <a:lnTo>
                  <a:pt x="26170" y="1400"/>
                </a:lnTo>
                <a:close/>
              </a:path>
              <a:path fill="darkenLess" w="27570" h="21600">
                <a:moveTo>
                  <a:pt x="275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0" y="20200"/>
                </a:lnTo>
                <a:close/>
              </a:path>
              <a:path fill="lighten" w="275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7" action="ppaction://hlinksldjump"/>
          </p:cNvPr>
          <p:cNvSpPr/>
          <p:nvPr/>
        </p:nvSpPr>
        <p:spPr>
          <a:xfrm>
            <a:off x="6487920" y="2810160"/>
            <a:ext cx="1945080" cy="667800"/>
          </a:xfrm>
          <a:custGeom>
            <a:avLst/>
            <a:gdLst>
              <a:gd name="textAreaLeft" fmla="*/ 43200 w 1945080"/>
              <a:gd name="textAreaRight" fmla="*/ 1901880 w 19450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62891" h="21600">
                <a:moveTo>
                  <a:pt x="0" y="0"/>
                </a:moveTo>
                <a:lnTo>
                  <a:pt x="62891" y="0"/>
                </a:lnTo>
                <a:lnTo>
                  <a:pt x="62891" y="21600"/>
                </a:lnTo>
                <a:lnTo>
                  <a:pt x="0" y="21600"/>
                </a:lnTo>
                <a:close/>
              </a:path>
              <a:path fill="lightenLess" w="62891" h="21600">
                <a:moveTo>
                  <a:pt x="0" y="0"/>
                </a:moveTo>
                <a:lnTo>
                  <a:pt x="62891" y="0"/>
                </a:lnTo>
                <a:lnTo>
                  <a:pt x="61491" y="1400"/>
                </a:lnTo>
                <a:lnTo>
                  <a:pt x="1400" y="1400"/>
                </a:lnTo>
                <a:close/>
              </a:path>
              <a:path fill="darken" w="62891" h="21600">
                <a:moveTo>
                  <a:pt x="62891" y="0"/>
                </a:moveTo>
                <a:lnTo>
                  <a:pt x="62891" y="21600"/>
                </a:lnTo>
                <a:lnTo>
                  <a:pt x="61491" y="20200"/>
                </a:lnTo>
                <a:lnTo>
                  <a:pt x="61491" y="1400"/>
                </a:lnTo>
                <a:close/>
              </a:path>
              <a:path fill="darkenLess" w="62891" h="21600">
                <a:moveTo>
                  <a:pt x="62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91" y="20200"/>
                </a:lnTo>
                <a:close/>
              </a:path>
              <a:path fill="lighten" w="62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2666880" y="4038480"/>
            <a:ext cx="350532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not an adjective in the sentence. Click on the word that describes the build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343400" y="4495680"/>
            <a:ext cx="4800600" cy="2362320"/>
          </a:xfrm>
          <a:custGeom>
            <a:avLst/>
            <a:gdLst>
              <a:gd name="textAreaLeft" fmla="*/ 153000 w 4800600"/>
              <a:gd name="textAreaRight" fmla="*/ 4647600 w 48006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3891" h="21600">
                <a:moveTo>
                  <a:pt x="0" y="0"/>
                </a:moveTo>
                <a:lnTo>
                  <a:pt x="43891" y="0"/>
                </a:lnTo>
                <a:lnTo>
                  <a:pt x="43891" y="21600"/>
                </a:lnTo>
                <a:lnTo>
                  <a:pt x="0" y="21600"/>
                </a:lnTo>
                <a:close/>
              </a:path>
              <a:path fill="lightenLess" w="43891" h="21600">
                <a:moveTo>
                  <a:pt x="0" y="0"/>
                </a:moveTo>
                <a:lnTo>
                  <a:pt x="43891" y="0"/>
                </a:lnTo>
                <a:lnTo>
                  <a:pt x="42491" y="1400"/>
                </a:lnTo>
                <a:lnTo>
                  <a:pt x="1400" y="1400"/>
                </a:lnTo>
                <a:close/>
              </a:path>
              <a:path fill="darken" w="43891" h="21600">
                <a:moveTo>
                  <a:pt x="43891" y="0"/>
                </a:moveTo>
                <a:lnTo>
                  <a:pt x="43891" y="21600"/>
                </a:lnTo>
                <a:lnTo>
                  <a:pt x="42491" y="20200"/>
                </a:lnTo>
                <a:lnTo>
                  <a:pt x="42491" y="1400"/>
                </a:lnTo>
                <a:close/>
              </a:path>
              <a:path fill="darkenLess" w="43891" h="21600">
                <a:moveTo>
                  <a:pt x="43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91" y="20200"/>
                </a:lnTo>
                <a:close/>
              </a:path>
              <a:path fill="lighten" w="43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 is the word to describe the building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527560" cy="2239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an x under each adjective in the following sentences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hite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ld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big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correct adjectives that you should have chosen are underlined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g was running in the pa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uilding was being torn dow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ruc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’s your turn. Make a list of adjectives you could use to describe a cat. Type your answers below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8991720" cy="6858000"/>
          </a:xfrm>
          <a:custGeom>
            <a:avLst/>
            <a:gdLst>
              <a:gd name="textAreaLeft" fmla="*/ 444240 w 8991720"/>
              <a:gd name="textAreaRight" fmla="*/ 8547480 w 8991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320" h="21600">
                <a:moveTo>
                  <a:pt x="0" y="0"/>
                </a:moveTo>
                <a:lnTo>
                  <a:pt x="28320" y="0"/>
                </a:lnTo>
                <a:lnTo>
                  <a:pt x="28320" y="21600"/>
                </a:lnTo>
                <a:lnTo>
                  <a:pt x="0" y="21600"/>
                </a:lnTo>
                <a:close/>
              </a:path>
              <a:path fill="lightenLess" w="28320" h="21600">
                <a:moveTo>
                  <a:pt x="0" y="0"/>
                </a:moveTo>
                <a:lnTo>
                  <a:pt x="28320" y="0"/>
                </a:lnTo>
                <a:lnTo>
                  <a:pt x="26920" y="1400"/>
                </a:lnTo>
                <a:lnTo>
                  <a:pt x="1400" y="1400"/>
                </a:lnTo>
                <a:close/>
              </a:path>
              <a:path fill="darken" w="28320" h="21600">
                <a:moveTo>
                  <a:pt x="28320" y="0"/>
                </a:moveTo>
                <a:lnTo>
                  <a:pt x="28320" y="21600"/>
                </a:lnTo>
                <a:lnTo>
                  <a:pt x="26920" y="20200"/>
                </a:lnTo>
                <a:lnTo>
                  <a:pt x="26920" y="1400"/>
                </a:lnTo>
                <a:close/>
              </a:path>
              <a:path fill="darkenLess" w="28320" h="21600">
                <a:moveTo>
                  <a:pt x="28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20" y="20200"/>
                </a:lnTo>
                <a:close/>
              </a:path>
              <a:path fill="lighten" w="28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day we will review nouns and identify adjectives and verbs in sentenc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Verb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bs are words used to describe an action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tion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1609560" cy="1752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6840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943600" y="1066680"/>
            <a:ext cx="1755720" cy="175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647720" cy="1955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9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 verb in this sentence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666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666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1073160" y="2657880"/>
            <a:ext cx="974160" cy="667800"/>
          </a:xfrm>
          <a:custGeom>
            <a:avLst/>
            <a:gdLst>
              <a:gd name="textAreaLeft" fmla="*/ 43200 w 974160"/>
              <a:gd name="textAreaRight" fmla="*/ 930960 w 9741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1504" h="21600">
                <a:moveTo>
                  <a:pt x="0" y="0"/>
                </a:moveTo>
                <a:lnTo>
                  <a:pt x="31504" y="0"/>
                </a:lnTo>
                <a:lnTo>
                  <a:pt x="31504" y="21600"/>
                </a:lnTo>
                <a:lnTo>
                  <a:pt x="0" y="21600"/>
                </a:lnTo>
                <a:close/>
              </a:path>
              <a:path fill="lightenLess" w="31504" h="21600">
                <a:moveTo>
                  <a:pt x="0" y="0"/>
                </a:moveTo>
                <a:lnTo>
                  <a:pt x="31504" y="0"/>
                </a:lnTo>
                <a:lnTo>
                  <a:pt x="30104" y="1400"/>
                </a:lnTo>
                <a:lnTo>
                  <a:pt x="1400" y="1400"/>
                </a:lnTo>
                <a:close/>
              </a:path>
              <a:path fill="darken" w="31504" h="21600">
                <a:moveTo>
                  <a:pt x="31504" y="0"/>
                </a:moveTo>
                <a:lnTo>
                  <a:pt x="31504" y="21600"/>
                </a:lnTo>
                <a:lnTo>
                  <a:pt x="30104" y="20200"/>
                </a:lnTo>
                <a:lnTo>
                  <a:pt x="30104" y="1400"/>
                </a:lnTo>
                <a:close/>
              </a:path>
              <a:path fill="darkenLess" w="31504" h="21600">
                <a:moveTo>
                  <a:pt x="31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4" y="20200"/>
                </a:lnTo>
                <a:close/>
              </a:path>
              <a:path fill="lighten" w="31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2211480" y="2657880"/>
            <a:ext cx="1039680" cy="667800"/>
          </a:xfrm>
          <a:custGeom>
            <a:avLst/>
            <a:gdLst>
              <a:gd name="textAreaLeft" fmla="*/ 43200 w 1039680"/>
              <a:gd name="textAreaRight" fmla="*/ 996480 w 10396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622" h="21600">
                <a:moveTo>
                  <a:pt x="0" y="0"/>
                </a:moveTo>
                <a:lnTo>
                  <a:pt x="33622" y="0"/>
                </a:lnTo>
                <a:lnTo>
                  <a:pt x="33622" y="21600"/>
                </a:lnTo>
                <a:lnTo>
                  <a:pt x="0" y="21600"/>
                </a:lnTo>
                <a:close/>
              </a:path>
              <a:path fill="lightenLess" w="33622" h="21600">
                <a:moveTo>
                  <a:pt x="0" y="0"/>
                </a:moveTo>
                <a:lnTo>
                  <a:pt x="33622" y="0"/>
                </a:lnTo>
                <a:lnTo>
                  <a:pt x="32222" y="1400"/>
                </a:lnTo>
                <a:lnTo>
                  <a:pt x="1400" y="1400"/>
                </a:lnTo>
                <a:close/>
              </a:path>
              <a:path fill="darken" w="33622" h="21600">
                <a:moveTo>
                  <a:pt x="33622" y="0"/>
                </a:moveTo>
                <a:lnTo>
                  <a:pt x="33622" y="21600"/>
                </a:lnTo>
                <a:lnTo>
                  <a:pt x="32222" y="20200"/>
                </a:lnTo>
                <a:lnTo>
                  <a:pt x="32222" y="1400"/>
                </a:lnTo>
                <a:close/>
              </a:path>
              <a:path fill="darkenLess" w="33622" h="21600">
                <a:moveTo>
                  <a:pt x="33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2" y="20200"/>
                </a:lnTo>
                <a:close/>
              </a:path>
              <a:path fill="lighten" w="33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89480" y="2649600"/>
            <a:ext cx="617400" cy="661320"/>
          </a:xfrm>
          <a:custGeom>
            <a:avLst/>
            <a:gdLst>
              <a:gd name="textAreaLeft" fmla="*/ 39960 w 617400"/>
              <a:gd name="textAreaRight" fmla="*/ 577440 w 617400"/>
              <a:gd name="textAreaTop" fmla="*/ 39960 h 661320"/>
              <a:gd name="textAreaBottom" fmla="*/ 621360 h 661320"/>
            </a:gdLst>
            <a:ahLst/>
            <a:rect l="textAreaLeft" t="textAreaTop" r="textAreaRight" b="textAreaBottom"/>
            <a:pathLst>
              <a:path w="21600" h="23136">
                <a:moveTo>
                  <a:pt x="0" y="0"/>
                </a:moveTo>
                <a:lnTo>
                  <a:pt x="21600" y="0"/>
                </a:lnTo>
                <a:lnTo>
                  <a:pt x="21600" y="23136"/>
                </a:lnTo>
                <a:lnTo>
                  <a:pt x="0" y="23136"/>
                </a:lnTo>
                <a:close/>
              </a:path>
              <a:path fill="lightenLess" w="21600" h="231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6">
                <a:moveTo>
                  <a:pt x="21600" y="0"/>
                </a:moveTo>
                <a:lnTo>
                  <a:pt x="21600" y="23136"/>
                </a:lnTo>
                <a:lnTo>
                  <a:pt x="20200" y="21736"/>
                </a:lnTo>
                <a:lnTo>
                  <a:pt x="20200" y="1400"/>
                </a:lnTo>
                <a:close/>
              </a:path>
              <a:path fill="darkenLess" w="21600" h="23136">
                <a:moveTo>
                  <a:pt x="21600" y="23136"/>
                </a:moveTo>
                <a:lnTo>
                  <a:pt x="0" y="23136"/>
                </a:lnTo>
                <a:lnTo>
                  <a:pt x="1400" y="21736"/>
                </a:lnTo>
                <a:lnTo>
                  <a:pt x="20200" y="21736"/>
                </a:lnTo>
                <a:close/>
              </a:path>
              <a:path fill="lighten" w="21600" h="23136">
                <a:moveTo>
                  <a:pt x="0" y="231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9480" y="2657880"/>
            <a:ext cx="894960" cy="667800"/>
          </a:xfrm>
          <a:custGeom>
            <a:avLst/>
            <a:gdLst>
              <a:gd name="textAreaLeft" fmla="*/ 43200 w 894960"/>
              <a:gd name="textAreaRight" fmla="*/ 851760 w 8949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74360" y="2657880"/>
            <a:ext cx="1102320" cy="667800"/>
          </a:xfrm>
          <a:custGeom>
            <a:avLst/>
            <a:gdLst>
              <a:gd name="textAreaLeft" fmla="*/ 43200 w 1102320"/>
              <a:gd name="textAreaRight" fmla="*/ 1059120 w 11023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00" y="2657880"/>
            <a:ext cx="1043640" cy="667800"/>
          </a:xfrm>
          <a:custGeom>
            <a:avLst/>
            <a:gdLst>
              <a:gd name="textAreaLeft" fmla="*/ 43200 w 1043640"/>
              <a:gd name="textAreaRight" fmla="*/ 1000440 w 10436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33750" h="21600">
                <a:moveTo>
                  <a:pt x="0" y="0"/>
                </a:moveTo>
                <a:lnTo>
                  <a:pt x="33750" y="0"/>
                </a:lnTo>
                <a:lnTo>
                  <a:pt x="33750" y="21600"/>
                </a:lnTo>
                <a:lnTo>
                  <a:pt x="0" y="21600"/>
                </a:lnTo>
                <a:close/>
              </a:path>
              <a:path fill="lightenLess" w="33750" h="21600">
                <a:moveTo>
                  <a:pt x="0" y="0"/>
                </a:moveTo>
                <a:lnTo>
                  <a:pt x="33750" y="0"/>
                </a:lnTo>
                <a:lnTo>
                  <a:pt x="32350" y="1400"/>
                </a:lnTo>
                <a:lnTo>
                  <a:pt x="1400" y="1400"/>
                </a:lnTo>
                <a:close/>
              </a:path>
              <a:path fill="darken" w="33750" h="21600">
                <a:moveTo>
                  <a:pt x="33750" y="0"/>
                </a:moveTo>
                <a:lnTo>
                  <a:pt x="33750" y="21600"/>
                </a:lnTo>
                <a:lnTo>
                  <a:pt x="32350" y="20200"/>
                </a:lnTo>
                <a:lnTo>
                  <a:pt x="32350" y="1400"/>
                </a:lnTo>
                <a:close/>
              </a:path>
              <a:path fill="darkenLess" w="33750" h="21600">
                <a:moveTo>
                  <a:pt x="33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50" y="20200"/>
                </a:lnTo>
                <a:close/>
              </a:path>
              <a:path fill="lighten" w="33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verb. Remember a verb is an action word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flies is the verb in this sentence. Great job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00400" y="3606840"/>
            <a:ext cx="2070000" cy="183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an x under the verb in each sente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caught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jumped into the 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sat quietly on the r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se are the correct verbs that you should have put an x unde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li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u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ba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ro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jump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o the wat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etly on the ru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ll in the following sentences with a verb (action word)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              down the hil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Kendell          after the ball to get i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Ryan            the ball to Spenc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6400800" cy="419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on a category to begin.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Nouns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_x000b_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djectives</a:t>
            </a:r>
            <a:br>
              <a:rPr sz="3600"/>
            </a:b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Nou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uns are described as a person, place, or thing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685800" y="152280"/>
          <a:ext cx="7696080" cy="60195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60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an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wthorne El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b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ate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94788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81080" y="3276720"/>
            <a:ext cx="93996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833400" cy="1374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114800" y="990720"/>
            <a:ext cx="1582560" cy="8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1752480" cy="125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495680" y="5240160"/>
            <a:ext cx="1217880" cy="8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38480" y="38862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400800" y="762120"/>
            <a:ext cx="13701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6705720" y="2362320"/>
            <a:ext cx="1285920" cy="117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629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53080" y="5029200"/>
            <a:ext cx="154332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noun in this sentence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6095880" y="312408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8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8" y="20200"/>
                </a:lnTo>
                <a:lnTo>
                  <a:pt x="39398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8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81080" y="31240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3429000" y="31240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724280" y="3124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27620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 is a noun in the sentence it refers to a th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3565440"/>
            <a:ext cx="2374920" cy="21052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9528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rec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word is not a noun. Remember a noun is a person, place or thing. Try agai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8686800" cy="6858000"/>
          </a:xfrm>
          <a:custGeom>
            <a:avLst/>
            <a:gdLst>
              <a:gd name="textAreaLeft" fmla="*/ 444240 w 8686800"/>
              <a:gd name="textAreaRight" fmla="*/ 8242560 w 8686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360" h="21600">
                <a:moveTo>
                  <a:pt x="0" y="0"/>
                </a:moveTo>
                <a:lnTo>
                  <a:pt x="27360" y="0"/>
                </a:lnTo>
                <a:lnTo>
                  <a:pt x="27360" y="21600"/>
                </a:lnTo>
                <a:lnTo>
                  <a:pt x="0" y="21600"/>
                </a:lnTo>
                <a:close/>
              </a:path>
              <a:path fill="lightenLess" w="27360" h="21600">
                <a:moveTo>
                  <a:pt x="0" y="0"/>
                </a:moveTo>
                <a:lnTo>
                  <a:pt x="27360" y="0"/>
                </a:lnTo>
                <a:lnTo>
                  <a:pt x="25960" y="1400"/>
                </a:lnTo>
                <a:lnTo>
                  <a:pt x="1400" y="1400"/>
                </a:lnTo>
                <a:close/>
              </a:path>
              <a:path fill="darken" w="27360" h="21600">
                <a:moveTo>
                  <a:pt x="27360" y="0"/>
                </a:moveTo>
                <a:lnTo>
                  <a:pt x="27360" y="21600"/>
                </a:lnTo>
                <a:lnTo>
                  <a:pt x="25960" y="20200"/>
                </a:lnTo>
                <a:lnTo>
                  <a:pt x="25960" y="1400"/>
                </a:lnTo>
                <a:close/>
              </a:path>
              <a:path fill="darkenLess" w="27360" h="21600">
                <a:moveTo>
                  <a:pt x="27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0" y="20200"/>
                </a:lnTo>
                <a:close/>
              </a:path>
              <a:path fill="lighten" w="27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12193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21140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400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nouns in these sentences. Put an x under each word that is a no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ris took his dog to the 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yla played with her do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vid fell asleep in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9718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971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54:28Z</dcterms:created>
  <dc:creator>owner</dc:creator>
  <dc:description/>
  <dc:language>en-US</dc:language>
  <cp:lastModifiedBy>Beth Ann</cp:lastModifiedBy>
  <dcterms:modified xsi:type="dcterms:W3CDTF">2009-04-13T00:39:26Z</dcterms:modified>
  <cp:revision>38</cp:revision>
  <dc:subject/>
  <dc:title>Parts of Speech:  Nouns, Adjectives, Adverbs</dc:title>
</cp:coreProperties>
</file>